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DF1-4A0F-40CA-B99C-F35CC1F8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AEA-3089-46D2-B782-D3CB95FE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772-617B-462C-A211-358B7AB7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961-286C-4EC6-A4D4-AD4BFAD8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307-7862-47C0-82DA-C0C93AE3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D92-D36A-4DE7-B445-D6E52734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68C-B05D-47CE-AF79-2EB97179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54E-B5B4-4C04-8B59-FC0E7BFB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2FC-88D8-4748-B120-BD7EA9C0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CF5-380A-4349-BCC7-525F1916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9815-3545-4550-AF7B-193E4D2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CCF-989D-44B5-A7A7-875D647D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86D3-119C-4865-A7F0-E274B1AE6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erman-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German Wine Festiv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39880" y="152280"/>
            <a:ext cx="741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rma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ustoms and Tradi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0" y="480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son Knapczy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: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http://www.hotchkissdesign.com/blog/wp-content/uploads/2011/01/wineBottleSyrahGrandFirepeakCuvee.jpg"/>
          <p:cNvPicPr/>
          <p:nvPr/>
        </p:nvPicPr>
        <p:blipFill>
          <a:blip r:embed="rId2"/>
          <a:stretch/>
        </p:blipFill>
        <p:spPr>
          <a:xfrm>
            <a:off x="762120" y="4038480"/>
            <a:ext cx="157140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perthproductphotography.com.au/wp-content/gallery/wine-bottle-photography/wine-bottle-photography-1.jpg"/>
          <p:cNvPicPr/>
          <p:nvPr/>
        </p:nvPicPr>
        <p:blipFill>
          <a:blip r:embed="rId3"/>
          <a:stretch/>
        </p:blipFill>
        <p:spPr>
          <a:xfrm>
            <a:off x="6858000" y="4038480"/>
            <a:ext cx="1525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452600" y="28954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http://www.travelsignposts.com/wordpress/germany/german-wine-beer-festivals-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295280" y="1916280"/>
            <a:ext cx="64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http://www.germanytourism.co.uk/EGB/attractions_events/event_highlights_wine_festival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252520" y="38498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http://www.krolltravel.com/TravelNews/tn200708029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3713760" y="477828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950640" y="135252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9920" y="5486400"/>
            <a:ext cx="51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</a:rPr>
              <a:t>http://images.search.yahoo.com/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990720" y="457200"/>
            <a:ext cx="72388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2f2f2"/>
                </a:solidFill>
                <a:uFillTx/>
                <a:latin typeface="Arial"/>
              </a:rPr>
              <a:t>German Wine Festiv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8000" y="1527120"/>
            <a:ext cx="718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ity in German has their own differ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hat they do. The fest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ually held in the month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and September. Th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stival is held form Berli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ine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mage Detail"/>
          <p:cNvPicPr/>
          <p:nvPr/>
        </p:nvPicPr>
        <p:blipFill>
          <a:blip r:embed="rId1"/>
          <a:stretch/>
        </p:blipFill>
        <p:spPr>
          <a:xfrm>
            <a:off x="990720" y="4237200"/>
            <a:ext cx="3671640" cy="24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mage Detail"/>
          <p:cNvPicPr/>
          <p:nvPr/>
        </p:nvPicPr>
        <p:blipFill>
          <a:blip r:embed="rId2"/>
          <a:stretch/>
        </p:blipFill>
        <p:spPr>
          <a:xfrm>
            <a:off x="5257800" y="2133720"/>
            <a:ext cx="365760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erman Wine Festival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517200" y="1752480"/>
            <a:ext cx="212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755360" y="2971800"/>
            <a:ext cx="708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estival is usually hel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week of August.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tival involves beer and wine. One million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to this festival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. There is live mu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hows to k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entertai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Image Detail"/>
          <p:cNvPicPr/>
          <p:nvPr/>
        </p:nvPicPr>
        <p:blipFill>
          <a:blip r:embed="rId1"/>
          <a:stretch/>
        </p:blipFill>
        <p:spPr>
          <a:xfrm>
            <a:off x="6095880" y="1406520"/>
            <a:ext cx="2382840" cy="223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age Detail"/>
          <p:cNvPicPr/>
          <p:nvPr/>
        </p:nvPicPr>
        <p:blipFill>
          <a:blip r:embed="rId2"/>
          <a:stretch/>
        </p:blipFill>
        <p:spPr>
          <a:xfrm>
            <a:off x="5299200" y="4216320"/>
            <a:ext cx="2558880" cy="264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age Detail"/>
          <p:cNvPicPr/>
          <p:nvPr/>
        </p:nvPicPr>
        <p:blipFill>
          <a:blip r:embed="rId3"/>
          <a:stretch/>
        </p:blipFill>
        <p:spPr>
          <a:xfrm>
            <a:off x="115920" y="1371600"/>
            <a:ext cx="1596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Wine Festivals in Germ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80360" y="3889440"/>
            <a:ext cx="5606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rgest wine festival is held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d Duerkheim, which is n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delberg. The festival be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September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is fest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more than 600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es from all over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Image Detail"/>
          <p:cNvPicPr/>
          <p:nvPr/>
        </p:nvPicPr>
        <p:blipFill>
          <a:blip r:embed="rId1"/>
          <a:stretch/>
        </p:blipFill>
        <p:spPr>
          <a:xfrm>
            <a:off x="609480" y="10666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age Detail"/>
          <p:cNvPicPr/>
          <p:nvPr/>
        </p:nvPicPr>
        <p:blipFill>
          <a:blip r:embed="rId2"/>
          <a:stretch/>
        </p:blipFill>
        <p:spPr>
          <a:xfrm>
            <a:off x="5708520" y="3962520"/>
            <a:ext cx="3417840" cy="260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Image Detail"/>
          <p:cNvPicPr/>
          <p:nvPr/>
        </p:nvPicPr>
        <p:blipFill>
          <a:blip r:embed="rId3"/>
          <a:stretch/>
        </p:blipFill>
        <p:spPr>
          <a:xfrm>
            <a:off x="5708520" y="993600"/>
            <a:ext cx="2838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80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hine River Fest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4786200" y="1386000"/>
            <a:ext cx="4435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500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ine River festivals.The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ifferent with the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ds of wines and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that happen at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festivals.The old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grower cooperation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 Detail"/>
          <p:cNvPicPr/>
          <p:nvPr/>
        </p:nvPicPr>
        <p:blipFill>
          <a:blip r:embed="rId1"/>
          <a:stretch/>
        </p:blipFill>
        <p:spPr>
          <a:xfrm>
            <a:off x="152280" y="1386000"/>
            <a:ext cx="4491000" cy="249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age Detail"/>
          <p:cNvPicPr/>
          <p:nvPr/>
        </p:nvPicPr>
        <p:blipFill>
          <a:blip r:embed="rId2"/>
          <a:stretch/>
        </p:blipFill>
        <p:spPr>
          <a:xfrm>
            <a:off x="2133720" y="4368960"/>
            <a:ext cx="6838920" cy="2317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79360" y="390204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hosts its wine festival In Mayschos on the Rhine river on October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Wine Festiv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185560" y="1501920"/>
            <a:ext cx="660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rmany has hundreds of wine harv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lebrations. The festivals are held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me of Germany's most scenic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is always some form of music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festi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Image Detail"/>
          <p:cNvPicPr/>
          <p:nvPr/>
        </p:nvPicPr>
        <p:blipFill>
          <a:blip r:embed="rId1"/>
          <a:stretch/>
        </p:blipFill>
        <p:spPr>
          <a:xfrm>
            <a:off x="304920" y="747720"/>
            <a:ext cx="1400040" cy="558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age Detail"/>
          <p:cNvPicPr/>
          <p:nvPr/>
        </p:nvPicPr>
        <p:blipFill>
          <a:blip r:embed="rId2"/>
          <a:stretch/>
        </p:blipFill>
        <p:spPr>
          <a:xfrm>
            <a:off x="3048120" y="3714840"/>
            <a:ext cx="480060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ine Festiv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2760" y="2057400"/>
            <a:ext cx="633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stivals also include some of German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food. Like sausage, pretzels, mea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eses. The festival “ Federweissen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elebrating the arrival of the new w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kes place in Octo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Image Detail"/>
          <p:cNvPicPr/>
          <p:nvPr/>
        </p:nvPicPr>
        <p:blipFill>
          <a:blip r:embed="rId1"/>
          <a:stretch/>
        </p:blipFill>
        <p:spPr>
          <a:xfrm>
            <a:off x="33480" y="52560"/>
            <a:ext cx="2176200" cy="2004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mage Detail"/>
          <p:cNvPicPr/>
          <p:nvPr/>
        </p:nvPicPr>
        <p:blipFill>
          <a:blip r:embed="rId2"/>
          <a:stretch/>
        </p:blipFill>
        <p:spPr>
          <a:xfrm>
            <a:off x="6243480" y="1600200"/>
            <a:ext cx="2800440" cy="225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Image Detail"/>
          <p:cNvPicPr/>
          <p:nvPr/>
        </p:nvPicPr>
        <p:blipFill>
          <a:blip r:embed="rId3"/>
          <a:stretch/>
        </p:blipFill>
        <p:spPr>
          <a:xfrm>
            <a:off x="4495680" y="4267080"/>
            <a:ext cx="333720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mage Detail"/>
          <p:cNvPicPr/>
          <p:nvPr/>
        </p:nvPicPr>
        <p:blipFill>
          <a:blip r:embed="rId4"/>
          <a:stretch/>
        </p:blipFill>
        <p:spPr>
          <a:xfrm>
            <a:off x="1371600" y="4000680"/>
            <a:ext cx="194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423360" y="1700280"/>
            <a:ext cx="84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bout how Many different festivals are on the Rhine Ri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20120" y="4038480"/>
            <a:ext cx="74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ere is the largest wine festival held in Germa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073520" y="2286000"/>
            <a:ext cx="150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  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  3,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082520" y="4724280"/>
            <a:ext cx="284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Frankf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  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  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  Bad Duerk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nsw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0320" y="190980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bout how Many different festivals are on the Rhine Ri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30320" y="4038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ere is the largest wine festival held in Germa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1760400" y="293544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770480" y="518148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  Bad Duerkhe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1752480" y="2987640"/>
            <a:ext cx="457200" cy="417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1752480" y="5234040"/>
            <a:ext cx="457200" cy="417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32:16Z</dcterms:created>
  <dc:creator>SCSadmin</dc:creator>
  <dc:description/>
  <dc:language>en-US</dc:language>
  <cp:lastModifiedBy>Ron and Deanna</cp:lastModifiedBy>
  <dcterms:modified xsi:type="dcterms:W3CDTF">2011-11-09T02:54:52Z</dcterms:modified>
  <cp:revision>12</cp:revision>
  <dc:subject/>
  <dc:title>German Wine Festival</dc:title>
</cp:coreProperties>
</file>